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062-A066-4BA8-97F7-891B09EA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E5A-B38D-44B1-915F-58FE7ECE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D45-CC9C-490D-95A3-887A6F92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9D6-4A00-44E4-81B8-0C6B46FF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454B-BB29-4D60-A6A8-C0D339B6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D85D-EA7E-455B-A3DD-6432CDC7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B2AC-3E37-4E33-8687-4DE2C715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E134-1A4E-44BF-8F95-3814199C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86BD-3ECF-4BE5-A1DE-C03434DE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8474-C753-4523-A6DD-507925E8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848A-204A-44BF-A4EA-8DCD40E8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C3E-B4F0-47A8-8890-9BB282FD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A73E-9367-4026-AAD1-12C25BB5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B645-F784-4226-84C8-8567192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8993-F1E9-4ED0-85A7-83BD7F8D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B1AF-B1AE-41B8-9F9C-0BCD955E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A9D8-0421-45D2-A844-5EF8312B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833-2758-4741-916B-D371FC5A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4BD-437F-4D98-8829-7BB3A3E2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186-2EB4-499D-8AAB-C0CA8F4F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F76-6967-4F9D-9CAC-7FEFFF61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B43-F626-4E17-ADD8-58A5FA49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EAF-DF0A-41D0-8F0D-0B1E3B42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76B-2834-4E53-8D7C-ECD314D5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DD0D-9F48-44D5-B60D-AA7DFE69D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7DF9-B986-4A7A-88D0-AD9B0FB1A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23880"/>
          <a:ext cx="777528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48600" y="1447920"/>
            <a:ext cx="14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ebr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 P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447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114800" y="144792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562720" y="144792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11360" y="1447920"/>
            <a:ext cx="12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&amp;.1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39880" y="251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360" y="32418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360" y="4003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360" y="47656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360" y="55278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40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16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28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080" y="251460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40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2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16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080" y="32767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400" y="3962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320" y="39625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0400" y="3962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080" y="403848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400" y="4724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280" y="4800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160" y="4800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080" y="4800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400" y="5562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280" y="5562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160" y="5562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080" y="5562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rcRect l="11775" t="45423" r="61372" b="18702"/>
          <a:stretch/>
        </p:blipFill>
        <p:spPr>
          <a:xfrm>
            <a:off x="2819520" y="2286000"/>
            <a:ext cx="3273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rcRect l="11778" t="45423" r="36351" b="13927"/>
          <a:stretch/>
        </p:blipFill>
        <p:spPr>
          <a:xfrm>
            <a:off x="1281240" y="1828800"/>
            <a:ext cx="6324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893600" y="3168720"/>
            <a:ext cx="637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termine whether the follow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spondence is a f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{(-6,1) (-1,3) (2,3) (7,12) (2,10)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963600" y="320040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286360" y="28195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e Domain and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(3,1),(5,3),(7,7),(3,5)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2745000" y="2819520"/>
            <a:ext cx="341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a F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main= {3,5,7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nge= {1,3,5,7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08720" y="3219480"/>
            <a:ext cx="636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(x-7)/(x+5), find the following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7),f(x+1),f(-5) and f(-1/2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2974320" y="2743200"/>
            <a:ext cx="307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(x-6)/(x+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) Doesn’t ex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)-5/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82080" y="3219480"/>
            <a:ext cx="55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Domain of the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     1    .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6x+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3048120" y="2819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= 5 or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26708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3581280" y="2819520"/>
            <a:ext cx="15264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rcRect l="12257" t="33152" r="62258" b="30294"/>
          <a:stretch/>
        </p:blipFill>
        <p:spPr>
          <a:xfrm>
            <a:off x="2590920" y="1676520"/>
            <a:ext cx="3106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990720" y="3168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Domain of the F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(x)=4-5x+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660120" y="281952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real'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2520" y="3168720"/>
            <a:ext cx="463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Slope from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n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2,-11) and (5,-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3812040" y="33526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/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893240" y="3168720"/>
            <a:ext cx="58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slope and Y-intercep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the given eq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-7/11x - 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891800" y="3168720"/>
            <a:ext cx="36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=-7/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-intercept= (0,-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79560" y="331776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unction T given by T(d)= 10d + 20 can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to determine the temperature T, in degr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sius, at a depth d, in kilometers, inside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T(5),(20), and (1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2545920" y="3124080"/>
            <a:ext cx="43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, 2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, 10,0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3600" y="3168720"/>
            <a:ext cx="633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slope of the line with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in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1/2 ,3) and (1/2 ,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3354840" y="29718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Defi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3"/>
          <a:srcRect l="12257" t="33152" r="37943" b="26199"/>
          <a:stretch/>
        </p:blipFill>
        <p:spPr>
          <a:xfrm>
            <a:off x="2590920" y="1676520"/>
            <a:ext cx="6072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89280" y="3168720"/>
            <a:ext cx="66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slope and the y-intercept of the line with the given eq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2x-y=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2763000" y="3048120"/>
            <a:ext cx="355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= -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-intercept= (0,-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5040" y="3168720"/>
            <a:ext cx="636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te the slope intercept eq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a line with the follow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racteris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= -2/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-intercept= (0,-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3137040" y="289548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-2/3x -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4680" y="3168720"/>
            <a:ext cx="6307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termine whether the lines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allel, perpendicular, or n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x-2y=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x-4y= -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3584160" y="281952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all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758240" y="1905120"/>
            <a:ext cx="6369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te the slope intercept eq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a line with the follow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racteris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sses through (-2,-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3362760" y="26668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3x + 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3240" y="3168720"/>
            <a:ext cx="571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a linear function h giv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(-2)= -9 and H(4)= 3. Th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H(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3125520" y="29718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(x)= 2x -5 ; -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rcRect l="12502" t="35460" r="62179" b="27828"/>
          <a:stretch/>
        </p:blipFill>
        <p:spPr>
          <a:xfrm>
            <a:off x="3067200" y="2133720"/>
            <a:ext cx="30873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981080" y="1981080"/>
            <a:ext cx="443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n the point (1,-1) and the li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x + 3y =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an equation of the line containing the given point and parallel to the given 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2897280" y="312408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-2/3x – 1/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890360" y="3168720"/>
            <a:ext cx="38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x – 4 = 5x + 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4040280" y="28954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528920" y="2286000"/>
            <a:ext cx="693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 and write interval notation f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ution s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x – 5 &lt; x + 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3202920" y="297180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-infinity,1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2880" y="3168720"/>
            <a:ext cx="587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zero(s) of the f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(x) = 8 – 2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42688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682280" y="1676520"/>
            <a:ext cx="62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enter of the circle describ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equation (x-1)2 + y2 = 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which of the follow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(-1,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(1,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)(0,-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)(-1,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4268880" y="2590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3"/>
          <a:srcRect l="12499" t="35460" r="37662" b="23895"/>
          <a:stretch/>
        </p:blipFill>
        <p:spPr>
          <a:xfrm>
            <a:off x="1676520" y="1828800"/>
            <a:ext cx="6076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2667960" y="2438280"/>
            <a:ext cx="323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– 13 = -13 + 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3660120" y="26668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real'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09960" y="2438280"/>
            <a:ext cx="914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quation y = 6x + 121 estimates the numb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faculty members At two-year colleges, i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usands, where x is the number of years af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70. For what years will there be more tha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25 thousand Faculty memb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427920" y="2743200"/>
            <a:ext cx="244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 &gt; 2004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rcRect l="12097" t="45005" r="66776" b="18702"/>
          <a:stretch/>
        </p:blipFill>
        <p:spPr>
          <a:xfrm>
            <a:off x="3276720" y="2057400"/>
            <a:ext cx="25765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rcRect l="12097" t="45005" r="39779" b="13532"/>
          <a:stretch/>
        </p:blipFill>
        <p:spPr>
          <a:xfrm>
            <a:off x="1676520" y="2057400"/>
            <a:ext cx="5867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rcRect l="12339" t="48258" r="66050" b="15552"/>
          <a:stretch/>
        </p:blipFill>
        <p:spPr>
          <a:xfrm>
            <a:off x="3276720" y="2057400"/>
            <a:ext cx="26352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rcRect l="12339" t="48258" r="39537" b="11488"/>
          <a:stretch/>
        </p:blipFill>
        <p:spPr>
          <a:xfrm>
            <a:off x="1523880" y="1828800"/>
            <a:ext cx="58676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Angela Beason</cp:lastModifiedBy>
  <dcterms:modified xsi:type="dcterms:W3CDTF">2014-01-16T15:49:14Z</dcterms:modified>
  <cp:revision>30</cp:revision>
  <dc:subject/>
  <dc:title>Jeopardy</dc:title>
</cp:coreProperties>
</file>